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CEF-9405-4A41-A494-CA75A9E4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9C8A-E497-4B42-9E0C-29BB26ED989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4C1-2856-4272-A79A-A9BC52F366C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3478-F82D-48E4-AE14-18EF6FD96E5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36B-E762-47D5-B5CC-8D45BF192387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9F01-678B-4AC0-AC26-C966144D032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540-352B-478C-A31E-B091815F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748-50C1-41B7-BA24-3F3EEEDC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EA7-D9F4-4086-8892-154E2775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935-96F3-4883-9761-D0C3B444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C3CF-9EE7-468B-BE38-1911610E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416E-43D7-428C-AE58-8F33E716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DD0E-A18B-41F9-B7AD-4F5891B0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73F8-D321-497B-99EC-9A68CEFF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B4BD-F8E8-4709-88C1-519247C7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84C0-A0A4-4777-B54D-79D37BF3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1058-4209-469E-AE08-04B7D70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723-51FC-4DC9-AC33-FD3DCC6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74E7-9047-4945-B252-30367F98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8A61-55BA-4F59-8147-F2250DD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DFA-D08E-4E31-9978-9A39F75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EBF-0C77-4DED-8765-25B437C6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3869-B217-424D-8C8C-ABC42EF8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EF1-4D1C-405E-AC40-0F6850EC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73E-B1D2-4960-81EC-7B0CC01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085-2088-4C4F-BE2D-F4360061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8C7-179C-444B-BE49-702B747D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36B-BAF3-47DD-BDD5-99C38F3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79DD-9072-4B8F-B708-BDDE781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F777-C979-4829-869E-DAB2531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CD5-8A4D-439A-BB21-4FB907DA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AF9C-078B-484F-B93E-CF58788B90F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Verdana"/>
              </a:rPr>
              <a:t>Parenting Styles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8472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Parenting Sty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cxnSp>
        <p:nvCxnSpPr>
          <p:cNvPr id="176" name="Straight Arrow Connector 4"/>
          <p:cNvCxnSpPr/>
          <p:nvPr/>
        </p:nvCxnSpPr>
        <p:spPr>
          <a:xfrm>
            <a:off x="533520" y="3352320"/>
            <a:ext cx="8077680" cy="25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headEnd len="med" type="arrow" w="med"/>
            <a:tailEnd len="med" type="arrow" w="med"/>
          </a:ln>
        </p:spPr>
      </p:cxnSp>
      <p:sp>
        <p:nvSpPr>
          <p:cNvPr id="177" name="TextBox 6"/>
          <p:cNvSpPr/>
          <p:nvPr/>
        </p:nvSpPr>
        <p:spPr>
          <a:xfrm>
            <a:off x="457200" y="3733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ermissive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   Authoritative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uthoritar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uthoritaria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 unquestioning obedi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punishment to control behavi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ss likely to be affectiona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unhappy, distrustful, ineffective in social interactions, dependent on adult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uthoritativ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ffectionate and lov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vide control when necessary and set limi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 children to express their own point of 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self-reliant, competent, and socially responsi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Permissiv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ke few deman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 children to make their own decis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inconsistent discipli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immature, lack of self control, and explore l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WHICH PARENTING STYLE </a:t>
            </a:r>
            <a:br>
              <a:rPr sz="3200"/>
            </a:b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WERE YOU RAISED UNDER?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ich style do you feel you were raised under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were the pro’s and con’s of this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ype of parent do you think you might be one day? Wh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20:32:59Z</dcterms:created>
  <dc:creator>SASD</dc:creator>
  <dc:description/>
  <dc:language>en-US</dc:language>
  <cp:lastModifiedBy>John Hampton</cp:lastModifiedBy>
  <dcterms:modified xsi:type="dcterms:W3CDTF">2012-03-26T19:07:02Z</dcterms:modified>
  <cp:revision>141</cp:revision>
  <dc:subject/>
  <dc:title>Parenting Styles</dc:title>
</cp:coreProperties>
</file>